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gif" ContentType="image/gif"/>
  <Override PartName="/ppt/media/image9.wmf" ContentType="image/x-wmf"/>
  <Override PartName="/ppt/media/image11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3BE-8C06-4616-857B-8B260C52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A35-7A5D-448B-AAD2-CFCE439B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ECFC0-1008-4134-9785-E7EAC31F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A9A07-8CE5-4AAD-ABAD-E598E619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96F75-37D3-472F-AE2E-374DD938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989E3-33A4-415D-A8C0-C735AE3B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CCAD9-D57D-4572-9778-F746B7F7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B60AF-71D7-48F0-A500-F612603E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3CF35-FE35-4291-A378-1267D1D1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4C490-B934-4207-BC17-A1C8F40A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632C7-E27F-4886-8C0E-7BF0CC01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E2553-9992-42F1-BEB7-61608ADA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3FE-787A-4187-B32D-8463EF6D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F6895-668E-4D39-B7DF-0021503F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CC755-5CF7-4975-A642-56C73E3D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FB956-505A-4419-9329-E47C3C3D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97530-8013-4736-B294-37C5BA8D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F4467-E650-46C7-B07A-FD3499A9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0077E-62B1-4B35-8CE3-52218D54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720C0-8D13-4230-BC1B-CCB5A123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F4440-AB31-4953-B515-6931B7A9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AA49C-E150-4BD3-BC71-19B8CEC7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B6018-55D3-4CCE-BFEF-5DDCDF95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1A8-3218-473B-8760-A04D9B8D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29289-418A-4488-AB89-86E4A1A8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C362F-5DF2-4933-AD10-17BB7B89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F5147-82BC-428F-8F6B-42C1B616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965DA-2AAD-4614-954B-7F63FC18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EB83F-BE7E-4E93-82E6-E188DFD9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9368A-125F-458C-95C3-E4A434E6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E9C3D-A0A9-4B76-9928-8D7E318A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A36FC-3A08-40DD-93E6-27085D48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34723-563B-4B11-B684-C7037006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F50B0-8EAC-496E-9ED8-6258EFFC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ADDC-2F2D-455B-B221-C2AE3714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2B632-6199-496C-93D5-FED8D5B4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3D1CE-DA66-43D4-B68A-8D237B99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E70FD-8F24-41A7-AAAF-3F09665B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47B01-F905-4D70-813E-9B0A27CC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DC461-B881-4B0B-8DCC-DD357C92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72D0C-C993-425B-80CB-6E62C6AC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116E9-C92D-4569-B46D-810980DD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7725A-1365-4806-822A-16B86E12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B76A9-6B6D-42FF-8DEC-6BD625E9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ACB86-6C62-4D96-BFB5-7B8A1D26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4CDE-E501-4EDA-9E97-DC05422A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18784-C8A4-4E08-8842-C78E913C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B4E2E-C248-4388-A776-5CECF674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3D911-C585-4BF7-B94A-956242F9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35722-6FBE-41FF-A5DB-73BA3CC2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EB167-F574-47F2-81D5-68B1C923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6D9E-48BD-455B-BCC5-BB7A26A6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4D0A-933D-4D31-84AC-A1EB3321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9211-CDC3-4AF1-9441-3DE2373C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49E6-400C-4B49-BFE2-952C4B5A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1109-F5AA-4A84-AE68-4C79EF4A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0B04-70A2-44B6-80E0-8AA6DD0C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6AAD-88DA-4DFB-AEBC-E4D6E77D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56B8-4BC3-4947-8DAE-274E1F30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7765-75C2-44C0-8361-EC1E81B6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AA86-BB3D-4CC8-A937-68F3846B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09FC-FBCF-4824-994B-2BC30196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41236-610B-4B0A-A3ED-A144710A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A0305-ED1F-45BF-8455-8F0A00AE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E2F33-BCE8-420C-90B2-920E1975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36D4-A828-4B43-80F2-43D9B69A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D5D0B-45F0-4990-BE4B-2E673E96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B97-AE1F-456B-9164-D4351EFB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A208F-3AE8-4F2F-9EAB-BBBD9BBF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605EB-BD77-4DEC-82CF-75F39848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A10EC-3B34-4064-AC9D-74448F4A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CF018-D98D-4E8B-B69A-2C5F82ED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7E068-9AE2-44B8-8B00-ADCCFB95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89031-25DD-45E2-A309-85E04350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36907-6030-4868-9A0A-E1BAEE63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EBE8B-0AC4-4944-9A22-D2365447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0EFA6-D032-4D47-B73C-1C61FEF9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3B240-A4F0-44C7-B934-B28FD0CD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E00-3603-4755-8775-095ABDE1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B7C6E-155F-4108-9888-BF564228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88F00-D5B2-4CC7-BDA2-F8BAB883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B84BA-4EDC-4EB5-99EC-C636D185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BF018-4F52-47D7-9D14-91AC5BD1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91BBC-E184-4AFA-92D8-088D7656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35A52-690C-4069-B04F-986082FA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F3133-6705-4711-8F94-61EBC534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FBC1D-8060-421E-8D9C-12A8E56C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4204A-09D8-4C59-9512-A2510F0A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045B6-E3F5-494A-A352-7618B649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7B9-D204-4F96-9254-F123E1E2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52554-A308-4C10-BACA-D9101A7A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83EF5-261F-4302-B2A3-4C2C5368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46118-1A06-4ABE-9599-EF1A5136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71CA3-818A-4E70-AD47-223F7350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CB5A7-DDB3-4687-9E7D-8A0DD3F7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EA140-B823-4A9E-B316-5836520A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8D3E2-F79B-42E3-B2E7-4F3A1EB1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284B1-E7D6-4C18-874B-CF9E301A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2B86D-B459-4CF3-9D3B-F883CAEA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647FA-D726-42C6-8A0A-B6AAD480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F66E-3619-4162-969B-55BE0F5B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7F22E-AB9A-4033-B9A5-F3118FA5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6F74E-B7AC-484B-A5C0-9A22F6E6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356A0-22F8-4536-94F1-0B440CA2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C4CB8-326D-4810-A569-FF5C90DD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B3166-651B-4441-ADAC-3F1E5DE1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DD5A1-7D74-4BDC-BAC1-C8ED217A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67AB6-7015-4DEA-8167-AF7D968F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126BF-C6CC-4D3C-BA6E-54FFE919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506E4-C068-4113-9EC4-3C1A832E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0504F-0948-45A4-9D77-72E6CF10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D2D-E58A-4D50-B328-F9E69233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A96F6-2305-41D1-8605-9FCF2014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5AD8B-1CBB-4643-91CC-8957E6E6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FB727-BD45-4D19-ACED-4380CD5B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17702-45DA-438B-B2B1-425C6711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1F122-E7DF-4F70-BECC-A351DCB6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01A2A-B6FB-4419-AFB7-47DF02EB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AFC98-7868-473E-8D46-A772DC9A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64F46-BB7F-4093-A339-2944B65C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2E412-5740-47FA-957C-915CC1C3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63945-E827-4BE8-B565-84BDFF24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3FC-D34D-4552-96A2-01444DC8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BA395-503A-466B-BA7E-B105E032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A50B3-7A85-4881-9EFB-7F83B720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EC637-62AF-4D18-9AA0-F0996948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31603-51F8-46BD-B0B3-7CB0E094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879E2-1F8B-49EE-AFD8-9EC18D9B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FB423-CFA0-482A-9CD1-2B7EACBD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22BE0-C501-4EF9-94CD-E743E753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E7C41-F0DF-4C52-BB20-F2EFED0C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6DF93-A2B0-418D-8D31-3BC2BF52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F0DF9-1B4C-4CEB-8BC8-D9790C75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F0B8-288B-4C28-A471-5825FBDB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FB121-C5BA-4F7C-857B-29D29589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C4951-613F-44E1-AD36-A5080AFC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C7537-47A2-4FE2-8A24-89256060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3EDFB-C0C2-43C0-8AD8-853B3022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3B9C3-A186-4FBF-9036-44140A20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69D43-38F6-44D0-BEAD-804311FB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B2EBF-E7BC-412F-B1CC-56ABDF1D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7566D-17EB-4D6D-ACEE-E4902CA5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7B4AF-133C-42A6-9734-7F9C6B5A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7625A-85CA-4E88-A2C7-BA3D1A17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7C6B-0B1E-4717-BE62-BEC546366C8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B2AA-7D55-4803-A249-6C1F2693DF3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2425-2D1C-42B1-A0FF-0F7C6CF46F8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95AE-0F77-4A65-AB7F-B219BF35605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3A5B-5C43-4242-95E2-6F08C2965F6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6" descr=""/>
          <p:cNvPicPr/>
          <p:nvPr/>
        </p:nvPicPr>
        <p:blipFill>
          <a:blip r:embed="rId3"/>
          <a:stretch/>
        </p:blipFill>
        <p:spPr>
          <a:xfrm>
            <a:off x="0" y="1260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4913-CE7E-48BF-BFF5-304067BED4A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BCA1-C86D-47FA-8B3A-52FF47D358B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2BA3-7023-491F-B4FA-1D0C06969C7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AF36-8EE7-430C-A567-CE2B52E077C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86DC-79E8-4B24-9FAF-5EB5F7AE9FE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A8A5-928F-439E-8516-9795A324FDD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B341-A5BB-4BAD-8271-5525B5AF548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10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3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jerimo topli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258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5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6840" y="907920"/>
            <a:ext cx="8218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liko je topline potrebno da voda zavri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mate li ideju kako ispitati koliko topline treba da se zagrije 1 kg vode od 20 °C do 100 °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o topline električno kuhalo snage npr. 600W predaje vodi svake sekund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300 W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60 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∙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300 W ∙ 60 s = 18 000 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Slika 3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08" name="Slika 1" descr=""/>
          <p:cNvPicPr/>
          <p:nvPr/>
        </p:nvPicPr>
        <p:blipFill>
          <a:blip r:embed="rId9"/>
          <a:stretch/>
        </p:blipFill>
        <p:spPr>
          <a:xfrm>
            <a:off x="324000" y="2708280"/>
            <a:ext cx="839772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539280" y="98100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stražite postoji li neka pravilnost između povećanja temperature tijela i primljene topline.                             Promjena temperatur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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T = t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– t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Content Placeholder 3" descr="SnapShot(35).jpg"/>
          <p:cNvPicPr/>
          <p:nvPr/>
        </p:nvPicPr>
        <p:blipFill>
          <a:blip r:embed="rId2"/>
          <a:srcRect l="38388" t="0" r="0" b="0"/>
          <a:stretch/>
        </p:blipFill>
        <p:spPr>
          <a:xfrm>
            <a:off x="5261040" y="3243240"/>
            <a:ext cx="3343320" cy="3052800"/>
          </a:xfrm>
          <a:prstGeom prst="rect">
            <a:avLst/>
          </a:prstGeom>
          <a:ln w="0">
            <a:noFill/>
          </a:ln>
        </p:spPr>
      </p:pic>
      <p:pic>
        <p:nvPicPr>
          <p:cNvPr id="51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12" name="Slika 2" descr=""/>
          <p:cNvPicPr/>
          <p:nvPr/>
        </p:nvPicPr>
        <p:blipFill>
          <a:blip r:embed="rId4"/>
          <a:stretch/>
        </p:blipFill>
        <p:spPr>
          <a:xfrm>
            <a:off x="684360" y="2495520"/>
            <a:ext cx="320976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oplina potrebna za jednaku promjenu temperature razmjerna je masi tijela i promjeni temper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eficijent proporcionalnosti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pecifični toplinski kapacit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58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Koliko treba top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 povećanje temperature za 1 °C potrebno je 4 186 J, no je zaokružujemo na 4 200 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vi-VN" sz="3200" spc="-1" strike="noStrike">
                <a:solidFill>
                  <a:srgbClr val="000000"/>
                </a:solidFill>
                <a:latin typeface="Arial"/>
              </a:rPr>
              <a:t>Specifični toplinski kapacitet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je svojstvo tvari zbog kojega se tijel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činjena iz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različitih tvari, </a:t>
            </a: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različito zagriju kada im dovedemo jednaku količinu topline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24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dnadžba toplin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Q = c · m ·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dnadžba toplinskog kapacite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pecifični toplinski kapacitet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vari iskazuje koliko energije treba primiti ili predati jedan kilogram tvari da joj se temperatura promjeni za 1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5"/>
          <a:stretch/>
        </p:blipFill>
        <p:spPr>
          <a:xfrm>
            <a:off x="3502080" y="2583000"/>
            <a:ext cx="1873080" cy="1174680"/>
          </a:xfrm>
          <a:prstGeom prst="rect">
            <a:avLst/>
          </a:prstGeom>
          <a:ln w="0">
            <a:noFill/>
          </a:ln>
        </p:spPr>
      </p:pic>
      <p:pic>
        <p:nvPicPr>
          <p:cNvPr id="520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179280" y="347400"/>
            <a:ext cx="856944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Razmislit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Gdje se sve koriste tvari velikog specifičnog kapaciteta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Zašto more, rijeke i jezera ublažuju veliku vrućinu i hladnoću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Kilogram vode i jedan kilogram željeza zagrijemo za 1K. Za koliko se pritom promijenila njihova unutarnja energija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Koliko topline voda volumena 500 cm</a:t>
            </a:r>
            <a:r>
              <a:rPr b="0" lang="hr-HR" sz="27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koja vrije preda okolišu kada se ohladi na sobnu temperaturu 20</a:t>
            </a:r>
            <a:r>
              <a:rPr b="1" lang="hr-HR" sz="27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7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Slika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23" name="Slika 1" descr=""/>
          <p:cNvPicPr/>
          <p:nvPr/>
        </p:nvPicPr>
        <p:blipFill>
          <a:blip r:embed="rId3"/>
          <a:stretch/>
        </p:blipFill>
        <p:spPr>
          <a:xfrm>
            <a:off x="0" y="63324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179280" y="347400"/>
            <a:ext cx="878544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Razmislit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Kada se komad srebra mase 120g ohladi sa 66</a:t>
            </a:r>
            <a:r>
              <a:rPr b="1" lang="hr-HR" sz="27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7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C     na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1" lang="hr-HR" sz="27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7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C , preda okolišu energiju od 1.5kJ. Izračunajte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koliki je specifični toplinski kapacitet srebr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6. Dva tijela jednakih masa i sobne temperature, ali jedn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od aluminija, a drugo od željeza , uronite u kipuću vod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a) Hoće li se tijela zagrijati do jednake temperatur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b) Hoće li voda svakom tijelu predati jednaku toplinu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c) O čemu ovisi temperatura svakog tijela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26" name="Slika 1" descr=""/>
          <p:cNvPicPr/>
          <p:nvPr/>
        </p:nvPicPr>
        <p:blipFill>
          <a:blip r:embed="rId2"/>
          <a:stretch/>
        </p:blipFill>
        <p:spPr>
          <a:xfrm>
            <a:off x="0" y="63324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06:30:12Z</dcterms:created>
  <dc:creator>Mladen Vidović</dc:creator>
  <dc:description/>
  <dc:language>en-US</dc:language>
  <cp:lastModifiedBy>MArina Dumančić</cp:lastModifiedBy>
  <dcterms:modified xsi:type="dcterms:W3CDTF">2019-09-13T18:47:25Z</dcterms:modified>
  <cp:revision>17</cp:revision>
  <dc:subject/>
  <dc:title>Mjerenje topline</dc:title>
</cp:coreProperties>
</file>